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5965-D916-4296-8E80-007CABF1C063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9F5F-0DA1-4836-B3C5-614AEAB30DD1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370D-830B-49A0-838E-9685E04D9E6A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18C9-D556-4AAF-8585-A3BFE7BC135B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F2AA-76E5-4611-B83C-A1975A1D9BC3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8D8A-5D4E-450C-9231-C825D7D0CAB3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806D-F394-4E6A-B161-F6F2F490FB5F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0D58-7804-4CBB-957B-A912240233A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B8D7-A496-4493-8C4A-F7C3D7E3C35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19B0-AD1D-4E0C-A33E-A2D68773C79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8283-9268-456A-9512-000AEF042108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788C-3903-45CD-8E7E-A1EE01481303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1A9E-AA15-4719-BC7C-11035A2754D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E609-2C8B-432F-85F7-0ACD77002EFE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9786-D853-4ABC-891A-65EE88DEA3A0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EEA3-1BC7-4388-B0E7-77978670AE81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DDA9-E07C-4C74-B36C-C6F081C5835C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E926-4B37-4035-A762-5A6E4F860C8C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D2C9-3FBB-4D91-970E-2DF8ABF2FFAA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69E6-8ACA-439A-9841-FBE06A9CFD6B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546-796C-4BCF-A08D-C516A91C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54D-CAAB-4A51-8F8A-A6379052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B4A-F4A4-40B3-95F8-2FA4FB31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7F3-DD2F-4F56-8A37-D6FFF61B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46E-DD7B-4F9F-A8D5-D542D6BC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8FB-43B4-429F-A985-7D7A8739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7B8-DAAE-4009-8C64-A998EAA7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49C-2668-4708-B4F2-FDDA7D9E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70C-E340-454C-9EC8-3C82A2FC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07D-12C9-481C-8BB8-0E60E404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2E0-416A-4948-A5D9-5FC72F6E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3E0-010A-4F61-8A2A-88BF3B36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CC3C-E02D-439C-9A79-8B57C09ABD1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Oem%20User/Desktop/CLIL%20SCUOLA%20ELEMENTARE/TRIEST%20%20PEresentazione/planning/4Piano%20lezione%201.doc" TargetMode="External"/><Relationship Id="rId2" Type="http://schemas.openxmlformats.org/officeDocument/2006/relationships/hyperlink" Target="file:///C:/Documents%20and%20Settings/Oem%20User/Desktop/CLIL%20SCUOLA%20ELEMENTARE/TRIEST%20%20PEresentazione/planning/Piano%20lezione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Oem%20User/Desktop/CLIL%20SCUOLA%20ELEMENTARE/TRIEST%20%20PEresentazione/Il%20modello%20di%20task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Oem%20User/Desktop/CLIL%20SCUOLA%20ELEMENTARE/Udine%20e%20trieste/presentazione/activities%20-%20worksheets/OK/OK%20cut%20out%20and%20guess%201.doc" TargetMode="External"/><Relationship Id="rId2" Type="http://schemas.openxmlformats.org/officeDocument/2006/relationships/hyperlink" Target="file:///C:/Documents%20and%20Settings/Oem%20User/Desktop/CLIL%20SCUOLA%20ELEMENTARE/Udine%20e%20trieste/presentazione/activities%20-%20worksheets/OK/OK%20Identify%20&amp;%20match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Oem%20User/Desktop/CLIL%20SCUOLA%20ELEMENTARE/TRIEST%20%20PEresentazione/planning/1Modello%20INNESTO%201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Oem%20User/Desktop/CLIL%20SCUOLA%20ELEMENTARE/TRIEST%20%20PEresentazione/planning/2%20mese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Oem%20User/Desktop/CLIL%20SCUOLA%20ELEMENTARE/TRIEST%20%20PEresentazione/ESEMPIO/GLI%20OBIETTIVI.doc" TargetMode="External"/><Relationship Id="rId2" Type="http://schemas.openxmlformats.org/officeDocument/2006/relationships/hyperlink" Target="file:///C:/Documents%20and%20Settings/Oem%20User/Desktop/CLIL%20SCUOLA%20ELEMENTARE/TRIEST%20%20PEresentazione/ESEMPIO/lleaning%20unit%20shapes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LIL alla scuola primaria</a:t>
            </a:r>
            <a:br>
              <a:rPr sz="4000"/>
            </a:b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rganizzare le attività per i bambini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rmel Mary Coon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iversità Ca’ Foscari di Venez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ianificare la lezion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 indicare la sequenza dell’apprendimen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visto nel tempo a disposizione (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lan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uilding block dell’apprendimento = l’allievo fa e impara  quello che l’attività proposta lo chiede di fare (memorizzare, ipotizzare, sintetizzare, associare, 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blema a fare parlare gli alunni in 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Task-based method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s’è un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eaningful e meaning-bas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 ‘problema’ da risolv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 coppia oppure a grup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ff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3333ff"/>
                </a:solidFill>
                <a:latin typeface="Calibri"/>
              </a:rPr>
              <a:t>NON TUTTO QUELLO CHE CHE L’ALUNNO FA NELLA ‘LEZIONE’ CLIL AVRà TUTTE QUESTE CARATTERISTICHE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(cfr. idee per un percors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Modello di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fferenza esercizio, attività e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me si articola un 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ask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sempi dal percorso: task typ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What shape is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eacher  takes one of the plastic shapes and says to her puppet: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What shape is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uppet: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It’s a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uppet gets the children to rep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eacher repeats the action this time turning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he children and encouraging them to re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t-IT" sz="2700" spc="-1" strike="noStrike">
                <a:solidFill>
                  <a:srgbClr val="000000"/>
                </a:solidFill>
                <a:latin typeface="Calibri"/>
              </a:rPr>
              <a:t>What shape can you se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a. Teacher points to shapes in pictures of ordinary house- hold objects. She says: </a:t>
            </a:r>
            <a:r>
              <a:rPr b="0" i="1" lang="it-IT" sz="2700" spc="-1" strike="noStrike">
                <a:solidFill>
                  <a:srgbClr val="000000"/>
                </a:solidFill>
                <a:latin typeface="Calibri"/>
              </a:rPr>
              <a:t>What shape can you see?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it-IT" sz="2700" spc="-1" strike="noStrike">
                <a:solidFill>
                  <a:srgbClr val="ff0000"/>
                </a:solidFill>
                <a:latin typeface="Calibri"/>
              </a:rPr>
              <a:t>cfr ppt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 a man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Children: (it’s a ) </a:t>
            </a:r>
            <a:r>
              <a:rPr b="0" i="1" lang="it-IT" sz="2700" spc="-1" strike="noStrike">
                <a:solidFill>
                  <a:srgbClr val="000000"/>
                </a:solidFill>
                <a:latin typeface="Calibri"/>
              </a:rPr>
              <a:t>square,  rectangle,  circle,  triangle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b. Teacher puts out normal objects (toy car, bus, packet of cornflakes, orange, etc) and says:  </a:t>
            </a:r>
            <a:r>
              <a:rPr b="0" i="1" lang="it-IT" sz="2700" spc="-1" strike="noStrike">
                <a:solidFill>
                  <a:srgbClr val="000000"/>
                </a:solidFill>
                <a:latin typeface="Calibri"/>
              </a:rPr>
              <a:t>What shapes can you see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? The children together look at the objects, identify and point:  </a:t>
            </a:r>
            <a:r>
              <a:rPr b="0" i="1" lang="it-IT" sz="2700" spc="-1" strike="noStrike">
                <a:solidFill>
                  <a:srgbClr val="000000"/>
                </a:solidFill>
                <a:latin typeface="Calibri"/>
              </a:rPr>
              <a:t>A circle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 (the wheels of the bu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pell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a. Next to each shape the teacher  draws a separate line for each letter of the shape. She fills in each spac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quare: </a:t>
            </a:r>
            <a:r>
              <a:rPr b="0" i="1" lang="it-IT" sz="2500" spc="-1" strike="noStrike">
                <a:solidFill>
                  <a:srgbClr val="000000"/>
                </a:solidFill>
                <a:latin typeface="Calibri"/>
              </a:rPr>
              <a:t>S Q U A R 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ecc repeating the na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Children copy down on their workshe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b.  Using letter magnets:  next to the drawing of each shape the teacher puts in the letters in the wrong orde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The children consult what they have copied down on their  worksheets and come out to correct the spelling and  repeat the word they have ‘written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Strutturazione interna del task typ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ne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wo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(disegnare esemp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formation g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quired information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fr.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sempio dal percorso: task typ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e teacher provides the children with due different drawings. There are five differences between the two.The chilldren must find out the differences by asking each other questione lik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How many squares have you go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How many hexagons have you got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How many ovals have you got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? et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t the end they fill in the grid below together  with  the data they have collected concerning the two draw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714920" y="2857680"/>
          <a:ext cx="6213600" cy="19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2857680"/>
                    <a:ext cx="6213600" cy="19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sempio di tipi task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voro individuale - autono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empi di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L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TENT AND INTEGRATED LANGUAGE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IMPORTANZA DI QUESTA EXSPRESS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 che cosa pensa l’insegn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ch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 ch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sa f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ome f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MOLTE ALTRE DOMANDE ANCORA!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erch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tenziare l’apprendimento della 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iziare l’apprendimento di una 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n ch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lun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ltri insegnan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sa </a:t>
            </a:r>
            <a:r>
              <a:rPr b="0" lang="it-IT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area curricul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i sono dei limiti a quali aree curriculari siano più adat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. francese: educazione all’immagine &amp; geografia poli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tematica </a:t>
            </a:r>
            <a:r>
              <a:rPr b="0" lang="it-IT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ed all’im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È un aspetto fondamen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grammare e pianific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Modello innes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 tem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vedere una pianificazione temporale dell’esperienza onde poter elaborare meglio i percorsi e le unità di apprendimento (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e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laborare percor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laborare percorsi e documentarli sotto forma 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Unità di apprendimen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. Esempio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 et 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ché utile ? PB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8:00:59Z</dcterms:created>
  <dc:creator> </dc:creator>
  <dc:description/>
  <dc:language>en-US</dc:language>
  <cp:lastModifiedBy> </cp:lastModifiedBy>
  <dcterms:modified xsi:type="dcterms:W3CDTF">2008-05-08T14:50:55Z</dcterms:modified>
  <cp:revision>28</cp:revision>
  <dc:subject/>
  <dc:title>Diapositiva 1</dc:title>
</cp:coreProperties>
</file>